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BC73-1B6D-4E85-8A9A-F2701F93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48E-9664-4898-AFC4-59BB669D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7606-9B23-4B09-98C0-5A44C838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A56D-C3BF-409D-A982-CFB99CC4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A8AB-A7EE-4B00-A98E-16E72CC7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6362-CB7E-4CA3-8040-18D819C9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355F-0F71-4032-984C-50F334E7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DEC6-7BFC-4A39-90D9-1D269A17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885F-5B7C-46FB-8CAA-1213308C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0A75-5472-4B34-88B5-CC3A0F08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D23F-7EA2-4D84-9C17-A895388E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89A-A58E-4538-BACA-38359DAC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F797-EE3F-4D77-B3CF-81ABAE2B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DE35-80C8-4DCD-82D5-3F0DF0E8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671B-BDF5-46CE-B932-8C2D5F64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AD55-4601-470D-938C-D03FDD59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67F4-6851-4E59-B860-5BC4EABD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F2D3-EB3E-4C7F-AD1D-E1D80F77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732-A7E7-45A6-9EB2-84BB121B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CF36-922F-4892-A8D9-55E18711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9AA-634B-4B9E-84F0-EDFE6110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90D-C810-4BE7-B12C-29142EDE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09CE-203B-43A9-A931-96413229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6D07-6ACF-4530-A37A-1928B98F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CEC6-C1E0-4DFF-82B8-C7E47263A5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E043-8152-4569-92F7-982939048D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hyperlink" Target="http://en.wikipedia.org/wiki/File:Waclaw_Sierpinski_Prezes_TNW.jpg" TargetMode="External"/><Relationship Id="rId13" Type="http://schemas.openxmlformats.org/officeDocument/2006/relationships/image" Target="../media/image12.jpeg"/><Relationship Id="rId14" Type="http://schemas.openxmlformats.org/officeDocument/2006/relationships/image" Target="../media/image13.pn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57360" y="577440"/>
            <a:ext cx="6294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day’s Objecti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691480" y="0"/>
            <a:ext cx="452520" cy="482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288280" y="0"/>
            <a:ext cx="406440" cy="484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26880" y="0"/>
            <a:ext cx="20545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~Geometry 2~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35200" y="0"/>
            <a:ext cx="135720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r. Fie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433760" y="0"/>
            <a:ext cx="125280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Ms. Kno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8701200" y="455760"/>
            <a:ext cx="442800" cy="528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286840" y="447840"/>
            <a:ext cx="444240" cy="53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6064200" y="0"/>
            <a:ext cx="166536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Mr. Williams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8321760" y="971640"/>
            <a:ext cx="822240" cy="1012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8335800" y="3008160"/>
            <a:ext cx="808200" cy="903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8354880" y="1962000"/>
            <a:ext cx="789120" cy="1059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8410680" y="3967200"/>
            <a:ext cx="733320" cy="988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>
            <a:lum bright="12000"/>
          </a:blip>
          <a:stretch/>
        </p:blipFill>
        <p:spPr>
          <a:xfrm>
            <a:off x="8380440" y="4913280"/>
            <a:ext cx="763560" cy="1122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>
            <a:lum bright="6000"/>
          </a:blip>
          <a:stretch/>
        </p:blipFill>
        <p:spPr>
          <a:xfrm>
            <a:off x="8426520" y="5959440"/>
            <a:ext cx="717480" cy="898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>
            <a:lum bright="30000"/>
          </a:blip>
          <a:stretch/>
        </p:blipFill>
        <p:spPr>
          <a:xfrm>
            <a:off x="7227720" y="5856120"/>
            <a:ext cx="1170000" cy="10018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398680" y="1406520"/>
            <a:ext cx="581040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ule 19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special right triang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ule 2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of regular polygons and circles and circle s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746680" y="5808600"/>
            <a:ext cx="1503360" cy="1049040"/>
            <a:chOff x="5746680" y="5808600"/>
            <a:chExt cx="1503360" cy="1049040"/>
          </a:xfrm>
        </p:grpSpPr>
        <p:pic>
          <p:nvPicPr>
            <p:cNvPr id="115" name="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5746680" y="5827680"/>
              <a:ext cx="822240" cy="102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14"/>
            <a:stretch/>
          </p:blipFill>
          <p:spPr>
            <a:xfrm>
              <a:off x="6528960" y="5808600"/>
              <a:ext cx="721080" cy="100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" descr=""/>
          <p:cNvPicPr/>
          <p:nvPr/>
        </p:nvPicPr>
        <p:blipFill>
          <a:blip r:embed="rId15"/>
          <a:srcRect l="0" t="0" r="27699" b="49819"/>
          <a:stretch/>
        </p:blipFill>
        <p:spPr>
          <a:xfrm>
            <a:off x="0" y="1287360"/>
            <a:ext cx="2679840" cy="2863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14360" y="3387600"/>
            <a:ext cx="1812960" cy="99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ci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bylonia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al: find the area of the circle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544680" y="1743120"/>
            <a:ext cx="3614400" cy="3614760"/>
          </a:xfrm>
          <a:prstGeom prst="ellipse">
            <a:avLst/>
          </a:prstGeom>
          <a:solidFill>
            <a:srgbClr val="99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3680" y="3505320"/>
            <a:ext cx="15264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330280" y="2657520"/>
            <a:ext cx="1546560" cy="892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08320" y="3614760"/>
            <a:ext cx="1873080" cy="131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82960" y="313524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111560" y="1430280"/>
            <a:ext cx="4256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ea of sector is 20m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al: find the area of the circle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544680" y="1743120"/>
            <a:ext cx="3614400" cy="3614760"/>
          </a:xfrm>
          <a:prstGeom prst="ellipse">
            <a:avLst/>
          </a:prstGeom>
          <a:solidFill>
            <a:srgbClr val="99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63680" y="3505320"/>
            <a:ext cx="15264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330280" y="2657520"/>
            <a:ext cx="1546560" cy="892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08320" y="3614760"/>
            <a:ext cx="1873080" cy="131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82960" y="313524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111560" y="1430280"/>
            <a:ext cx="4256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ea of sector is 44m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57360" y="577440"/>
            <a:ext cx="6294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day’s Objecti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691480" y="0"/>
            <a:ext cx="452520" cy="482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288280" y="0"/>
            <a:ext cx="406440" cy="484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326880" y="0"/>
            <a:ext cx="20545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~Geometry 2~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635200" y="0"/>
            <a:ext cx="135720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r. Fie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433760" y="0"/>
            <a:ext cx="125280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Ms. Kno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8701200" y="455760"/>
            <a:ext cx="442800" cy="528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8286840" y="447840"/>
            <a:ext cx="444240" cy="537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6064200" y="0"/>
            <a:ext cx="166536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Mr. Williams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8321760" y="971640"/>
            <a:ext cx="822240" cy="1012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8335800" y="3008160"/>
            <a:ext cx="808200" cy="903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8354880" y="1962000"/>
            <a:ext cx="789120" cy="1059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8410680" y="3967200"/>
            <a:ext cx="733320" cy="988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>
            <a:lum bright="12000"/>
          </a:blip>
          <a:stretch/>
        </p:blipFill>
        <p:spPr>
          <a:xfrm>
            <a:off x="8380440" y="4913280"/>
            <a:ext cx="763560" cy="1122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>
            <a:lum bright="6000"/>
          </a:blip>
          <a:stretch/>
        </p:blipFill>
        <p:spPr>
          <a:xfrm>
            <a:off x="8426520" y="5959440"/>
            <a:ext cx="717480" cy="898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>
            <a:lum bright="30000"/>
          </a:blip>
          <a:stretch/>
        </p:blipFill>
        <p:spPr>
          <a:xfrm>
            <a:off x="7227720" y="5856120"/>
            <a:ext cx="1170000" cy="10018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398680" y="1406520"/>
            <a:ext cx="581040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ule 19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special right triangles needed for Mr. Field’s presentation on cir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ule 2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of regular polygons and circles and circle s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746680" y="5808600"/>
            <a:ext cx="1503360" cy="1049040"/>
            <a:chOff x="5746680" y="5808600"/>
            <a:chExt cx="1503360" cy="1049040"/>
          </a:xfrm>
        </p:grpSpPr>
        <p:pic>
          <p:nvPicPr>
            <p:cNvPr id="183" name="" descr=""/>
            <p:cNvPicPr/>
            <p:nvPr/>
          </p:nvPicPr>
          <p:blipFill>
            <a:blip r:embed="rId12"/>
            <a:stretch/>
          </p:blipFill>
          <p:spPr>
            <a:xfrm>
              <a:off x="5746680" y="5827680"/>
              <a:ext cx="822240" cy="102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3"/>
            <a:stretch/>
          </p:blipFill>
          <p:spPr>
            <a:xfrm>
              <a:off x="6528960" y="5808600"/>
              <a:ext cx="721080" cy="100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5" name="" descr=""/>
          <p:cNvPicPr/>
          <p:nvPr/>
        </p:nvPicPr>
        <p:blipFill>
          <a:blip r:embed="rId14"/>
          <a:stretch/>
        </p:blipFill>
        <p:spPr>
          <a:xfrm>
            <a:off x="0" y="1620720"/>
            <a:ext cx="2587680" cy="3640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0" y="4302000"/>
            <a:ext cx="2487600" cy="99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lli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helps En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69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ght hand dri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s of shared interse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-way traffic circ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-way stree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ffic sig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vement mar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ulations against jaywal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xi stan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f-street par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iver’s licens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hicle regist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ffic ticke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35360" y="0"/>
            <a:ext cx="3376800" cy="3395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575240" y="3452760"/>
            <a:ext cx="45687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al: find the area of the circle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544680" y="1743120"/>
            <a:ext cx="3614400" cy="3614760"/>
          </a:xfrm>
          <a:prstGeom prst="ellipse">
            <a:avLst/>
          </a:prstGeom>
          <a:solidFill>
            <a:srgbClr val="99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3680" y="3505320"/>
            <a:ext cx="15264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330280" y="2657520"/>
            <a:ext cx="1546560" cy="892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08320" y="3614760"/>
            <a:ext cx="1873080" cy="131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2960" y="313524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111560" y="1430280"/>
            <a:ext cx="4256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ea of sector is 20m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perimeter is 20 cm. Find the area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1327320" y="2570040"/>
            <a:ext cx="2852640" cy="285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perimeter is 24 cm. Find the area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090880" y="2133720"/>
            <a:ext cx="4027320" cy="34830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99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686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 perimeter is 20 cm. Find the area. (using triangles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977760" y="2570040"/>
            <a:ext cx="2853000" cy="285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CircleAreaWedges"/>
          <p:cNvPicPr/>
          <p:nvPr/>
        </p:nvPicPr>
        <p:blipFill>
          <a:blip r:embed="rId1"/>
          <a:srcRect l="0" t="13927" r="70180" b="29157"/>
          <a:stretch/>
        </p:blipFill>
        <p:spPr>
          <a:xfrm>
            <a:off x="0" y="2017800"/>
            <a:ext cx="3111480" cy="3346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CircleAreaWedges"/>
          <p:cNvPicPr/>
          <p:nvPr/>
        </p:nvPicPr>
        <p:blipFill>
          <a:blip r:embed="rId2"/>
          <a:srcRect l="39306" t="11867" r="7868" b="52816"/>
          <a:stretch/>
        </p:blipFill>
        <p:spPr>
          <a:xfrm>
            <a:off x="3471840" y="4297320"/>
            <a:ext cx="5672160" cy="2138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5915160" y="3301920"/>
            <a:ext cx="276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6769080" y="4440240"/>
            <a:ext cx="209088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699000" y="4440240"/>
            <a:ext cx="215424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35320" y="4746600"/>
            <a:ext cx="0" cy="1457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51080" y="3236760"/>
            <a:ext cx="200160" cy="3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87480" y="2178000"/>
            <a:ext cx="2938320" cy="2894040"/>
          </a:xfrm>
          <a:prstGeom prst="ellipse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687840" y="1233360"/>
            <a:ext cx="91764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d=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622680" y="2041560"/>
            <a:ext cx="102708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lue=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8817120" y="4726080"/>
            <a:ext cx="0" cy="1457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83000" y="6400800"/>
            <a:ext cx="529128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ind the area given the circumference is 22m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1000080" y="2198520"/>
            <a:ext cx="3570480" cy="3570480"/>
          </a:xfrm>
          <a:prstGeom prst="ellipse">
            <a:avLst/>
          </a:prstGeom>
          <a:solidFill>
            <a:srgbClr val="99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ind the area given the circumference is 30m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1000080" y="2198520"/>
            <a:ext cx="3570480" cy="3570480"/>
          </a:xfrm>
          <a:prstGeom prst="ellipse">
            <a:avLst/>
          </a:prstGeom>
          <a:solidFill>
            <a:srgbClr val="99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illiamson</cp:lastModifiedBy>
  <dcterms:modified xsi:type="dcterms:W3CDTF">2010-07-26T15:26:19Z</dcterms:modified>
  <cp:revision>2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